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42EE7-22B9-4B69-A2C0-F2C82DE96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8E388-4123-4B42-8C0B-72E23429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9B6E3-2696-4C20-A2D9-27468A106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EEA5-4491-4B4D-B2A6-DC6EB2250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6CEB-806F-4B8B-AE87-29E72590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46BD-0DCB-4C84-A315-18F64EE97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B289-840F-46BC-B6D2-87250AB61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2F907-9462-4969-8F48-5EFB4DFA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BEC28-068B-425E-8188-316465145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9843F-29B8-4611-BE1D-56B6934D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6C5E-7990-43A0-85CB-74A5143B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26D7-CAD4-4FD4-9165-0B0198012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AD9B-2D30-46FE-BF3A-BB0CDDA5F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6360" y="1484280"/>
            <a:ext cx="6121440" cy="4843440"/>
          </a:xfrm>
          <a:prstGeom prst="rect">
            <a:avLst/>
          </a:prstGeom>
          <a:ln w="0">
            <a:noFill/>
          </a:ln>
        </p:spPr>
      </p:pic>
      <p:sp>
        <p:nvSpPr>
          <p:cNvPr id="42" name=""/>
          <p:cNvSpPr/>
          <p:nvPr/>
        </p:nvSpPr>
        <p:spPr>
          <a:xfrm>
            <a:off x="2050920" y="18900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Eras Bold ITC"/>
                <a:ea typeface="Arial"/>
              </a:rPr>
              <a:t>Christmas Greet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16000" y="620640"/>
            <a:ext cx="7416720" cy="511344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403280" y="765000"/>
            <a:ext cx="6432480" cy="593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other year, another them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s always we have had a lot of fun this year.  We are now on a firs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 </a:t>
            </a:r>
            <a:r>
              <a:rPr b="0" lang="en-NZ" sz="1200" spc="-1" strike="noStrike">
                <a:solidFill>
                  <a:srgbClr val="ffffff"/>
                </a:solidFill>
                <a:latin typeface="Arial Narrow"/>
                <a:ea typeface="Arial"/>
              </a:rPr>
              <a:t>name basis with most of the baristas in Carlton Gore R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engineering student, William Moody has gone over the dark side (Civil Engineering) and been replaced by Amrita (3rd Year Elec). Other newcomers include Dima (Process), Azam and Kritesh (Power Systems) and Simon (CAD). In support we have been joined by Natalia (bottom left) and Anna (bottom right) who is standing in for Kyli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ile we get larger we are striving to keep people as the centre of our company and not lose touch with their real needs. No new babies this year, but Azam has a work in progres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ur main area of expansion (apart from engineering) is in the area of engineering support. With additional support staff (so that Robyn doesn’t have to juggle all the balls) we are putting in place manuals, procedures and QA systems that will enable us to keep the same level of care as the company expand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 hope you all did your homework from last year. Nigel and I took our pre-teens to Waiheke again this year but I have to confess I haven’t written my letter yet but hope to before the year is out. (Funny, how hard it is to d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y challenge to you this year is to add life to your community. Stop worrying that your house isn’t flash enough, that your cooking is not up to scratch or you aren’t interesting enough. We all think that. Organise a dinner party, a pizza evening or go bowling. Use whatever you have (however humble) to make your life larger and include those around you.</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2007 organise at least one social event for six or more peo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Merry Christmas &amp; Happy New Y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Perpetua"/>
                <a:ea typeface="Arial"/>
              </a:rPr>
              <a:t>From The Team at Ergo</a:t>
            </a:r>
            <a:endParaRPr b="0" lang="en-US" sz="2000" spc="-1" strike="noStrike">
              <a:solidFill>
                <a:srgbClr val="000000"/>
              </a:solidFill>
              <a:latin typeface="Arial"/>
            </a:endParaRPr>
          </a:p>
        </p:txBody>
      </p:sp>
      <p:pic>
        <p:nvPicPr>
          <p:cNvPr id="45" name="" descr=""/>
          <p:cNvPicPr/>
          <p:nvPr/>
        </p:nvPicPr>
        <p:blipFill>
          <a:blip r:embed="rId1"/>
          <a:stretch/>
        </p:blipFill>
        <p:spPr>
          <a:xfrm>
            <a:off x="7093080" y="981000"/>
            <a:ext cx="961920" cy="5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2411280" y="262080"/>
            <a:ext cx="3240360" cy="65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Chris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Eras Bold ITC"/>
                <a:ea typeface="Arial"/>
              </a:rPr>
              <a:t>&amp; The Ergocentrics</a:t>
            </a:r>
            <a:endParaRPr b="0" lang="en-US" sz="2400" spc="-1" strike="noStrike">
              <a:solidFill>
                <a:srgbClr val="000000"/>
              </a:solidFill>
              <a:latin typeface="Arial"/>
            </a:endParaRPr>
          </a:p>
        </p:txBody>
      </p:sp>
      <p:sp>
        <p:nvSpPr>
          <p:cNvPr id="47" name=""/>
          <p:cNvSpPr/>
          <p:nvPr/>
        </p:nvSpPr>
        <p:spPr>
          <a:xfrm>
            <a:off x="4211640" y="1687320"/>
            <a:ext cx="4392720" cy="3926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Chris &amp; the Ergocentrics have become more than your average musos, engineers by day, lounge singers by night, this electric group of wannabe’s have mesmerised and dumbfounded critics with their snappy interpretations of those one hit wonders such 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anta, Is That You?, The Bells are A-Ringing, and Do-Wacka-D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Some have described their unique sound as east meets we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old school funkadelic, others describe it as a load of old rubbis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but this group are determined to stay in it for the long ru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nd not fade into the background as many covers bands 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n Chris’ words, ‘Winning last year’s Ergo Vision Contest really set us apart and gave us the confidence to branch out into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more difficult tunes such as Jeepers Creeper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It’s got a real tricky part on the bass, but I think we’ve nailed it no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hat’s more they’ve just secured a highly sought after contra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gigging through the holiday season at a mall near you.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All that hard graft entertaining at children’s parties and regular late night spots at the local RSA’s is finally paying real dividend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We’re starting to see some real fans in the audience now,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Narrow"/>
                <a:ea typeface="Arial"/>
              </a:rPr>
              <a:t>not just people queuing for Lotto or their dinner</a:t>
            </a:r>
            <a:r>
              <a:rPr b="0" lang="en-NZ" sz="900" spc="-1" strike="noStrike">
                <a:solidFill>
                  <a:srgbClr val="ffffff"/>
                </a:solidFill>
                <a:latin typeface="Arial Narrow"/>
                <a:ea typeface="Arial"/>
              </a:rPr>
              <a:t>.</a:t>
            </a:r>
            <a:endParaRPr b="0" lang="en-US" sz="900" spc="-1" strike="noStrike">
              <a:solidFill>
                <a:srgbClr val="000000"/>
              </a:solidFill>
              <a:latin typeface="Arial"/>
            </a:endParaRPr>
          </a:p>
        </p:txBody>
      </p:sp>
      <p:pic>
        <p:nvPicPr>
          <p:cNvPr id="48" name="" descr=""/>
          <p:cNvPicPr/>
          <p:nvPr/>
        </p:nvPicPr>
        <p:blipFill>
          <a:blip r:embed="rId1"/>
          <a:stretch/>
        </p:blipFill>
        <p:spPr>
          <a:xfrm rot="492000">
            <a:off x="826920" y="4005000"/>
            <a:ext cx="2880000" cy="2382840"/>
          </a:xfrm>
          <a:prstGeom prst="rect">
            <a:avLst/>
          </a:prstGeom>
          <a:ln w="0">
            <a:noFill/>
          </a:ln>
        </p:spPr>
      </p:pic>
      <p:pic>
        <p:nvPicPr>
          <p:cNvPr id="49" name="" descr=""/>
          <p:cNvPicPr/>
          <p:nvPr/>
        </p:nvPicPr>
        <p:blipFill>
          <a:blip r:embed="rId2"/>
          <a:stretch/>
        </p:blipFill>
        <p:spPr>
          <a:xfrm rot="21412200">
            <a:off x="826920" y="1412640"/>
            <a:ext cx="2822760" cy="211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916360" y="189000"/>
            <a:ext cx="6111720" cy="6346800"/>
          </a:xfrm>
          <a:prstGeom prst="rect">
            <a:avLst/>
          </a:prstGeom>
          <a:no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348000" y="404640"/>
            <a:ext cx="5184720" cy="57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ristmas C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little gem from Ergo’s Ye Olde Recipe Boo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kg Sultanas, chopped raisins and curr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chopped aprico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chopped walnu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0gm bu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brown sug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brandy or orange ju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½ cup cold te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sp finely grated orange &amp; lemon r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bsp golden syr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arge eggs lightly bea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cups plain fl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sp baking so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le blanched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 bran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e and grease a deep 23 cm round cake tin with pap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bine sultanas, raisins and currants.  Add apricots, walnu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ter, sugar, brandy / orange juice and cold tea in a large p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over heat until butter is melted and sugar dissol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mer, covered for 10 minutes, cool to room temper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 in orange and lemon rind.  Add golden syrup and eg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sifted dry ingredients, fold mixture gent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ead mixture evenly in the prepared p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orate the top with almo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ke in a slow 150°C oven for 2 ½ to 3 hou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ake comes 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lash over some extra brandy over the to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to cool in pan.</a:t>
            </a:r>
            <a:endParaRPr b="0" lang="en-US" sz="1200" spc="-1" strike="noStrike">
              <a:solidFill>
                <a:srgbClr val="000000"/>
              </a:solidFill>
              <a:latin typeface="Arial"/>
            </a:endParaRPr>
          </a:p>
        </p:txBody>
      </p:sp>
      <p:pic>
        <p:nvPicPr>
          <p:cNvPr id="52" name="" descr=""/>
          <p:cNvPicPr/>
          <p:nvPr/>
        </p:nvPicPr>
        <p:blipFill>
          <a:blip r:embed="rId1"/>
          <a:stretch/>
        </p:blipFill>
        <p:spPr>
          <a:xfrm rot="638400">
            <a:off x="179280" y="3933720"/>
            <a:ext cx="2871720" cy="2146320"/>
          </a:xfrm>
          <a:prstGeom prst="rect">
            <a:avLst/>
          </a:prstGeom>
          <a:ln w="0">
            <a:noFill/>
          </a:ln>
        </p:spPr>
      </p:pic>
      <p:pic>
        <p:nvPicPr>
          <p:cNvPr id="53" name="" descr=""/>
          <p:cNvPicPr/>
          <p:nvPr/>
        </p:nvPicPr>
        <p:blipFill>
          <a:blip r:embed="rId2"/>
          <a:stretch/>
        </p:blipFill>
        <p:spPr>
          <a:xfrm rot="20413800">
            <a:off x="250920" y="980640"/>
            <a:ext cx="2736720" cy="20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22:27:14Z</dcterms:created>
  <dc:creator>Kylie Todd</dc:creator>
  <dc:description/>
  <dc:language>en-US</dc:language>
  <cp:lastModifiedBy>Kylie Todd</cp:lastModifiedBy>
  <dcterms:modified xsi:type="dcterms:W3CDTF">2006-12-14T22:37:23Z</dcterms:modified>
  <cp:revision>2</cp:revision>
  <dc:subject/>
  <dc:title>Slide 1</dc:title>
</cp:coreProperties>
</file>